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7DE-F019-4277-8653-E9CEF696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493-9825-4CAA-B974-CFC52BF7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A29-BE75-4030-BA91-FB401A5A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EEC-52E7-494B-AADB-0EC3519F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DADF9-B6B3-4937-B85D-2BF87460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8D956-77A4-470D-9C5E-DFC6CC8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FA6A8-66C1-47E2-A759-67C596CA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59934-BBAF-4249-A9CA-784B8D2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7458B-1929-4EAA-B302-9F8B023A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85A09-9263-4A21-A799-84FBC935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903E5-DEB1-4D80-99A4-64D651D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182-6E57-47AF-9268-82BA274C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EC0D8-9EF8-474C-AF8E-4690428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AF307-17D7-4AD0-A705-1F6141E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7EDC6-073D-48B8-BE75-6A1F085A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D4DF5-2686-487F-95C0-944F5C7B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CCEAC-8EF5-47E5-9DB0-A5C64B8F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072-72DC-431F-93DB-C5D55812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CFF-E6A5-44E2-95C5-479545C6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D65-6602-4E1D-A33D-7E2368D4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550-B2D4-45BF-AD4E-D2A7CFE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6ED-E7D7-46FE-9AF3-1153E7DD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A56-5EB1-4F2B-BFDB-439C9830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267-97DC-4CE4-AA15-9195522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53E5F6-674D-48BB-9944-E4D0C8F87D9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7D39DD-4413-455F-9239-42A26A005DB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Archivo:Jean-FrancoisMillet(Nadar)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8000" spc="-1" strike="noStrike">
                <a:solidFill>
                  <a:srgbClr val="ffffff"/>
                </a:solidFill>
                <a:latin typeface="Monotype Corsiva"/>
              </a:rPr>
              <a:t>REALISMO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7c80"/>
              </a:buClr>
              <a:buSzPct val="120000"/>
              <a:buFont typeface="Monotype Corsiv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Genoveva Abán Relañ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7c80"/>
              </a:buClr>
              <a:buSzPct val="120000"/>
              <a:buFont typeface="Monotype Corsiv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Nuria Alcalá González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7c80"/>
              </a:buClr>
              <a:buSzPct val="120000"/>
              <a:buFont typeface="Monotype Corsiv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Rocío Crespo Mat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7c80"/>
              </a:buClr>
              <a:buSzPct val="120000"/>
              <a:buFont typeface="Monotype Corsiv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Manuel Espinosa Luqu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Mille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02768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intor reali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ndador de la Escuela de Barbiz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taca por su escenas de campesinos y granje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taca la inocencia del hombre campesi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1916280"/>
            <a:ext cx="3152520" cy="400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0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Monotype Corsiva"/>
              </a:rPr>
              <a:t>Índice de Contenido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Definició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Características del Realismo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Influencias de la época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El entierro de Ornans”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Las espigadoras”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Definición del Realism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Movimiento artístico y literario del siglo XI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tentó reflejar la realidad cotidiana con toda fide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 opone al Romanticism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Características</a:t>
            </a:r>
            <a:r>
              <a:rPr b="0" lang="es-ES_tradnl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del Realism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Búsqueda de l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realidad cotidian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pacidad de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observ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autor busca l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objetividad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sman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emas de su propia épo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Monotype Corsiva"/>
              </a:rPr>
              <a:t>El entierro de Ornans</a:t>
            </a:r>
            <a:br>
              <a:rPr sz="5400"/>
            </a:br>
            <a:r>
              <a:rPr b="0" lang="es-ES_tradnl" sz="5400" spc="-1" strike="noStrike">
                <a:solidFill>
                  <a:srgbClr val="ffffff"/>
                </a:solidFill>
                <a:latin typeface="Monotype Corsiva"/>
              </a:rPr>
              <a:t>(</a:t>
            </a:r>
            <a:r>
              <a:rPr b="0" lang="es-ES_tradnl" sz="4000" spc="-1" strike="noStrike">
                <a:solidFill>
                  <a:srgbClr val="ffffff"/>
                </a:solidFill>
                <a:latin typeface="Monotype Corsiva"/>
              </a:rPr>
              <a:t>Courbe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51720" cy="393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0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Características del cuadr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728352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có el nacimiento del Realis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inta el entierro de un campesi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mujeres aparecen separadas de los homb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sición geométrica: contracta la línea del horizonte con la de los pies de las perso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0720" y="3600360"/>
            <a:ext cx="6840720" cy="29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0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Courbe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00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intor francé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spcBef>
                <a:spcPts val="700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undador y máximo representante del realis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spcBef>
                <a:spcPts val="700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rometido activista democrát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333960" cy="399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0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Monotype Corsiva"/>
              </a:rPr>
              <a:t>Las espigadoras</a:t>
            </a:r>
            <a:br>
              <a:rPr sz="5400"/>
            </a:br>
            <a:r>
              <a:rPr b="0" lang="es-ES_tradnl" sz="4000" spc="-1" strike="noStrike">
                <a:solidFill>
                  <a:srgbClr val="ffffff"/>
                </a:solidFill>
                <a:latin typeface="Monotype Corsiva"/>
              </a:rPr>
              <a:t>(Mille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6032520" cy="483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400" y="-1792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Comentario del cuadr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1120" y="1440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resenta la pobreza de unas campes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a la fatiga de recoger las sobras de las cosech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levan vestimenta típica nor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 fondo se encuentran los almiares, una carreta cargada y, más lejos, las cas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36840" y="3959280"/>
            <a:ext cx="4762440" cy="287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0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7:36:15Z</dcterms:created>
  <dc:creator>NURIA</dc:creator>
  <dc:description/>
  <dc:language>en-US</dc:language>
  <cp:lastModifiedBy>NURIA</cp:lastModifiedBy>
  <dcterms:modified xsi:type="dcterms:W3CDTF">2011-01-21T17:38:03Z</dcterms:modified>
  <cp:revision>6</cp:revision>
  <dc:subject/>
  <dc:title>REALISMO</dc:title>
</cp:coreProperties>
</file>